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3F2C-CFAD-4EED-9913-8078D677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FE1-AF7D-4065-AC5A-873C7888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022-7383-45A0-9852-507B7287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041-A423-4967-A61C-1D26FCF2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CA3B-AD70-4A76-B198-CAA835E8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6294-DD35-4E0A-8EB5-8F299038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B9AB-4B6C-4A8B-B1E3-BA47C080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F41C-21F9-4429-AE08-BED61A6A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89B2-8279-4DB4-83AA-76CB7620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006A-7875-43FD-A733-05C36E10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02E3-5A2A-48A4-A089-F89B9A17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BC3-BF65-4E6C-84F8-AE51066D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7472-9968-4F02-A377-95FEB410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ED55-F0C9-4359-9D37-3119BD01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B6FF-8940-4A70-A09D-1316EA85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86BD-84B4-435D-9B5C-3A26B3A3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8C23-F157-469E-8575-B00E04C4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5D3BF-B125-4EFF-A915-FF581A11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CE40E-68C1-4FB8-94A6-AC971B76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DCBEB-8D70-48BF-87DE-86AFC446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E23F4-6A08-4E43-897A-E863D8F2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E3E19-F19C-46E5-8CBF-8F40A74D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BD1-C0E0-4E1E-BA10-F08779B6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2CE1F-C7AC-4283-BDD9-8C7757BE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4C106-03DB-4562-86C7-ABCA184F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504AE-A9FA-448B-ACDA-DAF72278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7BB32-D036-4491-B617-18C096FD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503B0-1108-4A7C-8E22-CF284BD1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448CE-5DC6-4B73-8FD6-7E922BC5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42581-132B-4DC2-859D-D00AECF4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64D8E-A6F0-4F51-9B0E-7C14F84C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BBA2F-266A-4A8F-98F3-D4CA0590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59C29-C7E2-4BB7-9B08-253A0C80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438-56C9-459E-B549-1FACDC22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BFAEA-741D-4B38-BEF9-3CF9FC34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9BB46-E97B-421D-BF3A-F993BC90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12072-2ED5-46A8-A060-690DE767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EA938-7B05-4053-A24D-AC31B32E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5F66A-FDBA-46BE-98C9-FD20AC1B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A10E7-19DF-4ABC-90B2-7C1C1C5A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B51D3-C2B2-43AE-A64B-2160C913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D957C-9991-4C06-8ED9-1A57A7EB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64F75-DB9A-4610-9607-2A0262C9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92F-88B7-44EC-881F-844EEE7D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A58-EBE5-42D3-9FEB-DD527093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50D-7096-4B24-BCD1-CDAF77A0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E46-58E7-4A7B-B5E7-BF057A9F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0C8-8E5E-419E-B5E3-FDE667B8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A344-0C2D-4C3B-BA1A-92EC9B686D32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rostokąt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rostokąt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rostokąt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rostokąt zaokrąglony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rostokąt zaokrąglony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rostokąt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rostokąt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rostokąt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rostokąt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0822-8B4C-419F-8EEE-D7522E26973C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BADE-A56D-4A6C-81A6-B92D4263801A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0990-0363-4526-AAFC-DD2DFA496A6F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Mnożenie pisemne przez liczbę jednocyfrową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16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3059280" y="4797360"/>
            <a:ext cx="349560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18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Mnożenie liczby dwucyfrowej przez jednocyfrową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zapisujemy oba czynniki w słupku, a iloczyn pod kreską</a:t>
            </a:r>
            <a:br>
              <a:rPr sz="1400"/>
            </a:b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mnożymy jednośc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· 2 = 4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zapisujemy w rzędzie jednośc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4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mnożymy dziesiątk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· 3 = 6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zapisujemy w rzędzie dziesiątek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6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ynik mnożenia </a:t>
            </a:r>
            <a:r>
              <a:rPr b="1" lang="pl-PL" sz="2000" spc="-1" strike="noStrike">
                <a:solidFill>
                  <a:srgbClr val="000000"/>
                </a:solidFill>
                <a:latin typeface="Georgia"/>
              </a:rPr>
              <a:t>32 · 2 = 6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ole tekstowe 7"/>
          <p:cNvSpPr/>
          <p:nvPr/>
        </p:nvSpPr>
        <p:spPr>
          <a:xfrm>
            <a:off x="7358760" y="2916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3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24" name="Łącznik prostoliniowy 9"/>
            <p:cNvSpPr/>
            <p:nvPr/>
          </p:nvSpPr>
          <p:spPr>
            <a:xfrm>
              <a:off x="6875640" y="3213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5" name="pole tekstowe 11"/>
            <p:cNvSpPr/>
            <p:nvPr/>
          </p:nvSpPr>
          <p:spPr>
            <a:xfrm>
              <a:off x="6955560" y="286056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26" name="Grupa 25"/>
          <p:cNvGrpSpPr/>
          <p:nvPr/>
        </p:nvGrpSpPr>
        <p:grpSpPr>
          <a:xfrm>
            <a:off x="6875640" y="3573360"/>
            <a:ext cx="1081080" cy="574920"/>
            <a:chOff x="6875640" y="3573360"/>
            <a:chExt cx="1081080" cy="574920"/>
          </a:xfrm>
        </p:grpSpPr>
        <p:sp>
          <p:nvSpPr>
            <p:cNvPr id="227" name="pole tekstowe 12"/>
            <p:cNvSpPr/>
            <p:nvPr/>
          </p:nvSpPr>
          <p:spPr>
            <a:xfrm>
              <a:off x="7161840" y="35733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8" name="pole tekstowe 13"/>
            <p:cNvSpPr/>
            <p:nvPr/>
          </p:nvSpPr>
          <p:spPr>
            <a:xfrm>
              <a:off x="7359120" y="3780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9" name="Łącznik prostoliniowy 14"/>
            <p:cNvSpPr/>
            <p:nvPr/>
          </p:nvSpPr>
          <p:spPr>
            <a:xfrm>
              <a:off x="6875640" y="4077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0" name="pole tekstowe 15"/>
            <p:cNvSpPr/>
            <p:nvPr/>
          </p:nvSpPr>
          <p:spPr>
            <a:xfrm>
              <a:off x="6955560" y="372456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31" name="pole tekstowe 16"/>
          <p:cNvSpPr/>
          <p:nvPr/>
        </p:nvSpPr>
        <p:spPr>
          <a:xfrm>
            <a:off x="735228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32" name="Grupa 22"/>
          <p:cNvGrpSpPr/>
          <p:nvPr/>
        </p:nvGrpSpPr>
        <p:grpSpPr>
          <a:xfrm>
            <a:off x="6872400" y="4805280"/>
            <a:ext cx="1081080" cy="800640"/>
            <a:chOff x="6872400" y="4805280"/>
            <a:chExt cx="1081080" cy="800640"/>
          </a:xfrm>
        </p:grpSpPr>
        <p:sp>
          <p:nvSpPr>
            <p:cNvPr id="233" name="pole tekstowe 17"/>
            <p:cNvSpPr/>
            <p:nvPr/>
          </p:nvSpPr>
          <p:spPr>
            <a:xfrm>
              <a:off x="7158600" y="4805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4" name="pole tekstowe 18"/>
            <p:cNvSpPr/>
            <p:nvPr/>
          </p:nvSpPr>
          <p:spPr>
            <a:xfrm>
              <a:off x="7355880" y="50119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5" name="Łącznik prostoliniowy 19"/>
            <p:cNvSpPr/>
            <p:nvPr/>
          </p:nvSpPr>
          <p:spPr>
            <a:xfrm>
              <a:off x="6872400" y="530964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6" name="pole tekstowe 20"/>
            <p:cNvSpPr/>
            <p:nvPr/>
          </p:nvSpPr>
          <p:spPr>
            <a:xfrm>
              <a:off x="6952320" y="495648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7" name="pole tekstowe 21"/>
            <p:cNvSpPr/>
            <p:nvPr/>
          </p:nvSpPr>
          <p:spPr>
            <a:xfrm>
              <a:off x="7349040" y="5237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38" name="pole tekstowe 23"/>
          <p:cNvSpPr/>
          <p:nvPr/>
        </p:nvSpPr>
        <p:spPr>
          <a:xfrm>
            <a:off x="7126920" y="5238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Elipsa 3"/>
          <p:cNvSpPr/>
          <p:nvPr/>
        </p:nvSpPr>
        <p:spPr>
          <a:xfrm>
            <a:off x="7408800" y="3573360"/>
            <a:ext cx="249480" cy="55080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Elipsa 4"/>
          <p:cNvSpPr/>
          <p:nvPr/>
        </p:nvSpPr>
        <p:spPr>
          <a:xfrm rot="19501800">
            <a:off x="7288200" y="4851000"/>
            <a:ext cx="222120" cy="5032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75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75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75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7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75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7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75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75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7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6 · 2 =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2 · 4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1 · 9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3 · 3 =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Tytuł 1"/>
          <p:cNvSpPr/>
          <p:nvPr/>
        </p:nvSpPr>
        <p:spPr>
          <a:xfrm>
            <a:off x="250920" y="533520"/>
            <a:ext cx="505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 – wykonaj mnożen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7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75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75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75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75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46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Mnożenie liczby dwucyfrowej przez jednocyfrową z przekroczeniem progu dziesiątkowego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- zapisujemy oba czynniki w słupku, a iloczyn pod kreską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mnożymy jednośc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6 · 2 = 1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;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to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 dziesiątka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jedności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w rzędzie jedności w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 dziesiątkę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opisujemy do rzędu dziesiątek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następnie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mnożymy 6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rzez dziesiątki;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6 · 4 = 2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dodajemy dodatkową 1 dziesiątkę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które powstały z jedności; stąd ma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4 + 1 = 25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5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to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setki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 dziesiątek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 dziesiątek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onieważ w rzędzie setek nie mamy cyfr,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spisujemy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i stąd ma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52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ole tekstowe 7"/>
          <p:cNvSpPr/>
          <p:nvPr/>
        </p:nvSpPr>
        <p:spPr>
          <a:xfrm>
            <a:off x="7358760" y="2916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51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52" name="Łącznik prostoliniowy 9"/>
            <p:cNvSpPr/>
            <p:nvPr/>
          </p:nvSpPr>
          <p:spPr>
            <a:xfrm>
              <a:off x="6875640" y="3213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3" name="pole tekstowe 11"/>
            <p:cNvSpPr/>
            <p:nvPr/>
          </p:nvSpPr>
          <p:spPr>
            <a:xfrm>
              <a:off x="6955560" y="286056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54" name="Grupa 25"/>
          <p:cNvGrpSpPr/>
          <p:nvPr/>
        </p:nvGrpSpPr>
        <p:grpSpPr>
          <a:xfrm>
            <a:off x="6875640" y="3573360"/>
            <a:ext cx="1081080" cy="574920"/>
            <a:chOff x="6875640" y="3573360"/>
            <a:chExt cx="1081080" cy="574920"/>
          </a:xfrm>
        </p:grpSpPr>
        <p:sp>
          <p:nvSpPr>
            <p:cNvPr id="255" name="pole tekstowe 12"/>
            <p:cNvSpPr/>
            <p:nvPr/>
          </p:nvSpPr>
          <p:spPr>
            <a:xfrm>
              <a:off x="7161840" y="35733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4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6" name="pole tekstowe 13"/>
            <p:cNvSpPr/>
            <p:nvPr/>
          </p:nvSpPr>
          <p:spPr>
            <a:xfrm>
              <a:off x="7359120" y="3780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7" name="Łącznik prostoliniowy 14"/>
            <p:cNvSpPr/>
            <p:nvPr/>
          </p:nvSpPr>
          <p:spPr>
            <a:xfrm>
              <a:off x="6875640" y="4077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8" name="pole tekstowe 15"/>
            <p:cNvSpPr/>
            <p:nvPr/>
          </p:nvSpPr>
          <p:spPr>
            <a:xfrm>
              <a:off x="6955560" y="372456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59" name="pole tekstowe 16"/>
          <p:cNvSpPr/>
          <p:nvPr/>
        </p:nvSpPr>
        <p:spPr>
          <a:xfrm>
            <a:off x="735228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ole tekstowe 23"/>
          <p:cNvSpPr/>
          <p:nvPr/>
        </p:nvSpPr>
        <p:spPr>
          <a:xfrm>
            <a:off x="6945840" y="5238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ole tekstowe 26"/>
          <p:cNvSpPr/>
          <p:nvPr/>
        </p:nvSpPr>
        <p:spPr>
          <a:xfrm>
            <a:off x="715248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2" name="Grupa 3"/>
          <p:cNvGrpSpPr/>
          <p:nvPr/>
        </p:nvGrpSpPr>
        <p:grpSpPr>
          <a:xfrm>
            <a:off x="6872400" y="4581360"/>
            <a:ext cx="1081080" cy="1024920"/>
            <a:chOff x="6872400" y="4581360"/>
            <a:chExt cx="1081080" cy="1024920"/>
          </a:xfrm>
        </p:grpSpPr>
        <p:grpSp>
          <p:nvGrpSpPr>
            <p:cNvPr id="263" name="Grupa 22"/>
            <p:cNvGrpSpPr/>
            <p:nvPr/>
          </p:nvGrpSpPr>
          <p:grpSpPr>
            <a:xfrm>
              <a:off x="6872400" y="4806000"/>
              <a:ext cx="1081080" cy="800280"/>
              <a:chOff x="6872400" y="4806000"/>
              <a:chExt cx="1081080" cy="800280"/>
            </a:xfrm>
          </p:grpSpPr>
          <p:sp>
            <p:nvSpPr>
              <p:cNvPr id="264" name="pole tekstowe 17"/>
              <p:cNvSpPr/>
              <p:nvPr/>
            </p:nvSpPr>
            <p:spPr>
              <a:xfrm>
                <a:off x="7158600" y="4806000"/>
                <a:ext cx="50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4 2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5" name="pole tekstowe 18"/>
              <p:cNvSpPr/>
              <p:nvPr/>
            </p:nvSpPr>
            <p:spPr>
              <a:xfrm>
                <a:off x="7355880" y="501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6" name="Łącznik prostoliniowy 19"/>
              <p:cNvSpPr/>
              <p:nvPr/>
            </p:nvSpPr>
            <p:spPr>
              <a:xfrm>
                <a:off x="6872400" y="5310000"/>
                <a:ext cx="10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7" name="pole tekstowe 20"/>
              <p:cNvSpPr/>
              <p:nvPr/>
            </p:nvSpPr>
            <p:spPr>
              <a:xfrm>
                <a:off x="6952320" y="4957200"/>
                <a:ext cx="25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Georgia"/>
                  </a:rPr>
                  <a:t>·</a:t>
                </a:r>
                <a:endParaRPr b="0" lang="en-US" sz="20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8" name="pole tekstowe 21"/>
              <p:cNvSpPr/>
              <p:nvPr/>
            </p:nvSpPr>
            <p:spPr>
              <a:xfrm>
                <a:off x="7349040" y="5238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269" name="pole tekstowe 27"/>
            <p:cNvSpPr/>
            <p:nvPr/>
          </p:nvSpPr>
          <p:spPr>
            <a:xfrm>
              <a:off x="7161480" y="4581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rebuchet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70" name="pole tekstowe 28"/>
          <p:cNvSpPr/>
          <p:nvPr/>
        </p:nvSpPr>
        <p:spPr>
          <a:xfrm>
            <a:off x="6926760" y="459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ole tekstowe 29"/>
          <p:cNvSpPr/>
          <p:nvPr/>
        </p:nvSpPr>
        <p:spPr>
          <a:xfrm>
            <a:off x="7142760" y="5238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75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75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36 · 6 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25 · 7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43 · 5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77 · 3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Tytuł 1"/>
          <p:cNvSpPr/>
          <p:nvPr/>
        </p:nvSpPr>
        <p:spPr>
          <a:xfrm>
            <a:off x="250920" y="533520"/>
            <a:ext cx="505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 – wykonaj mnożen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5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7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5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Obraz 5" descr=""/>
          <p:cNvPicPr/>
          <p:nvPr/>
        </p:nvPicPr>
        <p:blipFill>
          <a:blip r:embed="rId1"/>
          <a:srcRect l="13996" t="22486" r="2451" b="3104"/>
          <a:stretch/>
        </p:blipFill>
        <p:spPr>
          <a:xfrm>
            <a:off x="4390920" y="2004840"/>
            <a:ext cx="4523040" cy="405324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Mnożenie liczby trzycyfrowej przez jednocyfrową z przekroczeniem progu dziesiątkowego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24000" y="1761840"/>
            <a:ext cx="822960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- zapisujemy oba czynniki w słupku, a iloczyn pod kreską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przez 8 mnożymy jednośc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· 7 = 5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;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to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 dziesiątek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6 jednośc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zapisujemy w rzędzie jedności 6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5 dziesiątek dopisujemy do rzędu dziesiątek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następnie przez 8 mnożymy dziesiątki: 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· 2 = 1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amiętamy o 5 dziesiątkach, które powstały z jednośc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otrzym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6 + 5 = 21,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21 to 2 setki i 1 dziesiątka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w rzędzie dziesiątek zapisujemy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setki dopisujemy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o rzędu setek. 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teraz mnoży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przez setki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: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· 1 = 8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pamiętamy o 2 setkach, które powsta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 dziesiątek i otrzym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+ 2 = 10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w rzędzie setek pisz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0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w rzędzie tysięcy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ponieważ w rzędzie tysięcy nie ma żadnych liczb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spisujemy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stąd mamy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01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ole tekstowe 6"/>
          <p:cNvSpPr/>
          <p:nvPr/>
        </p:nvSpPr>
        <p:spPr>
          <a:xfrm>
            <a:off x="6844320" y="222732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 2 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ole tekstowe 7"/>
          <p:cNvSpPr/>
          <p:nvPr/>
        </p:nvSpPr>
        <p:spPr>
          <a:xfrm>
            <a:off x="7225200" y="2427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81" name="Grupa 24"/>
          <p:cNvGrpSpPr/>
          <p:nvPr/>
        </p:nvGrpSpPr>
        <p:grpSpPr>
          <a:xfrm>
            <a:off x="6678720" y="2373480"/>
            <a:ext cx="1144440" cy="398880"/>
            <a:chOff x="6678720" y="2373480"/>
            <a:chExt cx="1144440" cy="398880"/>
          </a:xfrm>
        </p:grpSpPr>
        <p:sp>
          <p:nvSpPr>
            <p:cNvPr id="282" name="Łącznik prostoliniowy 9"/>
            <p:cNvSpPr/>
            <p:nvPr/>
          </p:nvSpPr>
          <p:spPr>
            <a:xfrm>
              <a:off x="6742800" y="2726280"/>
              <a:ext cx="108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3" name="pole tekstowe 11"/>
            <p:cNvSpPr/>
            <p:nvPr/>
          </p:nvSpPr>
          <p:spPr>
            <a:xfrm>
              <a:off x="6678720" y="237348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84" name="Grupa 25"/>
          <p:cNvGrpSpPr/>
          <p:nvPr/>
        </p:nvGrpSpPr>
        <p:grpSpPr>
          <a:xfrm>
            <a:off x="6678720" y="3071880"/>
            <a:ext cx="1144440" cy="588600"/>
            <a:chOff x="6678720" y="3071880"/>
            <a:chExt cx="1144440" cy="588600"/>
          </a:xfrm>
        </p:grpSpPr>
        <p:sp>
          <p:nvSpPr>
            <p:cNvPr id="285" name="pole tekstowe 12"/>
            <p:cNvSpPr/>
            <p:nvPr/>
          </p:nvSpPr>
          <p:spPr>
            <a:xfrm>
              <a:off x="6844680" y="307188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2 7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6" name="pole tekstowe 13"/>
            <p:cNvSpPr/>
            <p:nvPr/>
          </p:nvSpPr>
          <p:spPr>
            <a:xfrm>
              <a:off x="7225920" y="3292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7" name="Łącznik prostoliniowy 14"/>
            <p:cNvSpPr/>
            <p:nvPr/>
          </p:nvSpPr>
          <p:spPr>
            <a:xfrm>
              <a:off x="6742800" y="3589200"/>
              <a:ext cx="108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8" name="pole tekstowe 15"/>
            <p:cNvSpPr/>
            <p:nvPr/>
          </p:nvSpPr>
          <p:spPr>
            <a:xfrm>
              <a:off x="6678720" y="323712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89" name="pole tekstowe 16"/>
          <p:cNvSpPr/>
          <p:nvPr/>
        </p:nvSpPr>
        <p:spPr>
          <a:xfrm>
            <a:off x="7219080" y="351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ole tekstowe 23"/>
          <p:cNvSpPr/>
          <p:nvPr/>
        </p:nvSpPr>
        <p:spPr>
          <a:xfrm>
            <a:off x="6812640" y="475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ole tekstowe 26"/>
          <p:cNvSpPr/>
          <p:nvPr/>
        </p:nvSpPr>
        <p:spPr>
          <a:xfrm>
            <a:off x="7018920" y="2868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92" name="Grupa 3"/>
          <p:cNvGrpSpPr/>
          <p:nvPr/>
        </p:nvGrpSpPr>
        <p:grpSpPr>
          <a:xfrm>
            <a:off x="6516720" y="4103640"/>
            <a:ext cx="1303200" cy="1016280"/>
            <a:chOff x="6516720" y="4103640"/>
            <a:chExt cx="1303200" cy="1016280"/>
          </a:xfrm>
        </p:grpSpPr>
        <p:grpSp>
          <p:nvGrpSpPr>
            <p:cNvPr id="293" name="Grupa 22"/>
            <p:cNvGrpSpPr/>
            <p:nvPr/>
          </p:nvGrpSpPr>
          <p:grpSpPr>
            <a:xfrm>
              <a:off x="6516720" y="4338000"/>
              <a:ext cx="1303200" cy="781920"/>
              <a:chOff x="6516720" y="4338000"/>
              <a:chExt cx="1303200" cy="781920"/>
            </a:xfrm>
          </p:grpSpPr>
          <p:sp>
            <p:nvSpPr>
              <p:cNvPr id="294" name="pole tekstowe 17"/>
              <p:cNvSpPr/>
              <p:nvPr/>
            </p:nvSpPr>
            <p:spPr>
              <a:xfrm>
                <a:off x="6799680" y="4338000"/>
                <a:ext cx="73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1 2 7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95" name="pole tekstowe 18"/>
              <p:cNvSpPr/>
              <p:nvPr/>
            </p:nvSpPr>
            <p:spPr>
              <a:xfrm>
                <a:off x="7193160" y="45252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96" name="Łącznik prostoliniowy 19"/>
              <p:cNvSpPr/>
              <p:nvPr/>
            </p:nvSpPr>
            <p:spPr>
              <a:xfrm>
                <a:off x="6516720" y="4822920"/>
                <a:ext cx="130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97" name="pole tekstowe 20"/>
              <p:cNvSpPr/>
              <p:nvPr/>
            </p:nvSpPr>
            <p:spPr>
              <a:xfrm>
                <a:off x="6678720" y="4469760"/>
                <a:ext cx="25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Georgia"/>
                  </a:rPr>
                  <a:t>·</a:t>
                </a:r>
                <a:endParaRPr b="0" lang="en-US" sz="20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98" name="pole tekstowe 21"/>
              <p:cNvSpPr/>
              <p:nvPr/>
            </p:nvSpPr>
            <p:spPr>
              <a:xfrm>
                <a:off x="7211520" y="4751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299" name="pole tekstowe 27"/>
            <p:cNvSpPr/>
            <p:nvPr/>
          </p:nvSpPr>
          <p:spPr>
            <a:xfrm>
              <a:off x="6998040" y="4103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rebuchet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00" name="pole tekstowe 28"/>
          <p:cNvSpPr/>
          <p:nvPr/>
        </p:nvSpPr>
        <p:spPr>
          <a:xfrm>
            <a:off x="6793560" y="409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ole tekstowe 29"/>
          <p:cNvSpPr/>
          <p:nvPr/>
        </p:nvSpPr>
        <p:spPr>
          <a:xfrm>
            <a:off x="7009560" y="475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ole tekstowe 30"/>
          <p:cNvSpPr/>
          <p:nvPr/>
        </p:nvSpPr>
        <p:spPr>
          <a:xfrm>
            <a:off x="6577560" y="409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ole tekstowe 31"/>
          <p:cNvSpPr/>
          <p:nvPr/>
        </p:nvSpPr>
        <p:spPr>
          <a:xfrm>
            <a:off x="6577560" y="4749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75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75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16 · 5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31 · 9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332 · 6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453 · 8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Tytuł 1"/>
          <p:cNvSpPr/>
          <p:nvPr/>
        </p:nvSpPr>
        <p:spPr>
          <a:xfrm>
            <a:off x="250920" y="533520"/>
            <a:ext cx="505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 – wykonaj mnożen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7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7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5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21T12:47:24Z</dcterms:modified>
  <cp:revision>28</cp:revision>
  <dc:subject/>
  <dc:title>Prezentacja programu PowerPoint</dc:title>
</cp:coreProperties>
</file>